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B7D-440F-43C7-959A-365433A7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1FA-7960-4432-85BC-BCD55C1E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2EA-5C93-4E3A-956B-02E6B3C9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820-E3F3-4438-8FB9-0CDBB382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5487-1E61-4FD9-8CBA-2AA95425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FC90-EF59-4A84-9A3B-982C4E7D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B71C-413A-49D3-884E-EF6158CA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432B-8AD6-4FB2-AF36-8DA3DC53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1BCB-3F79-45B7-8D6D-2488B52D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949C-B891-47EE-B56B-11713C2A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5970-405A-4719-90F3-BC0E821F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8FE-BBCD-4689-AA1F-0E95B0FD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7A0F-B52D-4131-844A-3AAC2D95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D918-4C71-43AE-AB33-EF0E66C9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A2AE-266B-48D1-980A-084E44F7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CC75-ED50-492C-A0B1-B4089E7D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2738-5FAB-4793-A860-FAA321BD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B3F-E0AD-4C11-A4DC-934E39F6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E48-F6D3-424D-9A29-4537E16E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056-A61D-4004-AF04-800CE7E7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82D-F380-4CD4-ABEE-BBE0F787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6244-1C63-4D22-B4F7-539529C3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2BB-D570-4E88-B892-E6EB6623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F11-1FC2-4FCA-A6E8-59EB6E67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64A7-5A49-4AD6-8CC6-140095839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4CEE-6ABF-4993-B088-B81CC0936BB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700" spc="-1" strike="noStrike">
                <a:solidFill>
                  <a:srgbClr val="ffffcc"/>
                </a:solidFill>
                <a:latin typeface="Arial"/>
              </a:rPr>
              <a:t>Превенција-ниво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Активни приступ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(подразумева промене понашањ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Коришћење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заштитних средстава на рад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Примена вакцина у превенцији неких 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асивни приступ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(не захтева промену понашања, једноставнији за спровођење)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- флуоризација вод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- додавање витамина појединим намирницам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Циљ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нижење инциденције болести контролом узрочних фактора (фактора ризик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Циљ примарне превенци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имарна превенција зависи од промена у понашању већине попула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Роузова “теорема”- изложеност великог броја људи малом ризику може довести до много више оболелих него изложеност малог броја људи високом ризик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Стратегије примарног нивоа превенциј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опулацио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Индивидуал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Предност популационог приступа превенциј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23270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НЕ захтева идентификацију појединаца са високим ризи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НЕ захтева идентификацију група са високим ризи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ffcc"/>
                </a:solidFill>
                <a:uFillTx/>
                <a:latin typeface="Arial"/>
              </a:rPr>
              <a:t>Недостатак</a:t>
            </a: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 популационог приступа превенциј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Не мора да буде од велике користи појединцу, с обзиром на низак степен његовог индивидуалног ризи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евентивни парадокс 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Нека превентивна мера доноси велику корист популацији, не мора истовремено да користи сваком њеном појединачном члан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екундарна превенција и мер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Рано откривање болести и адекватна терапиј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Циљ: заустављање напредовања боле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Време примене: фаза патогенезе боле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Ефикаснија код обољења која у природној историји имају период који се лако открива и леч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Спречава прогресију обољења у озбиљне стадијуме у којима су терапијске могућности мал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Услови који треба да буду испуњени да би секундарна превенција била ефикасн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игуран и безбедан метод откривања болести (ако је могуће у преклиничкој фаз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Ефикасан метод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Терцијарна превенција-мер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3818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Циљ: смањење неспособно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Примена епидемиолошких истраживања у области превенциј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зналажење могућности за ефикасну интервенцију у појединим 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Arial"/>
              </a:rPr>
              <a:t>фазама природног тока болести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(развој болести од почетних фаза до исход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ериод пре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ериод 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Опоравак, неспособност, смртни исх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Систем епидемиолошког надз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оцес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Евалуација ефикасности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Систем епидемиолошког надз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икупљање информација које имају за циљ сагледавање учесталости и дистрибуције болести и здравља у популациј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Процес интервенције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заснован 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индивидуалном приступ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пулационом приступ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комбинацији оба (са етичког аспекта најприхватљивиј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Евалуација ефикасности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континуирани проце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утиче на предлагање нових мера пре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Евалуација превентивних програм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6104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Рутински подаци здравствене статистик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Различити типови епидемиолошких студиј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Евалуација превентивних програм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требна због процене њихове оправданост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дразумева однос уложених средстава и очекиваног ефекта на здравствено стање попула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Нивои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6705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римордијал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римар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Секундар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Терцијарни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етходи или се поклапа са примарним нивоом пре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оследица је пораста укупног знања у области изучавања етиологије не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Циљ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пречити да се у некој популацији успоставе обрасци понашања у социјалној, економској и културној сфери живота који доводе до повећања ризика од појаве поједи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Arial"/>
              </a:rPr>
              <a:t>Примар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едуз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умева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низ мера и поступака у периоду пре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Циљ-смањење могућности за појаву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Мере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Здравствено васпитање о штетности појединих факт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штетности дувана (фактор ризика за малигне туморе, КВБ, респираторна обољењ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штетности прекомерне употребе алкохо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Мере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значају коришћења неких намирница (воће и поврће) које имају заштитну улогу у етиологији неких обољењ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вакцинама против неких 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25142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Актив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асив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5-09-10T07:29:4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