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404-5865-40EE-BB0D-51584907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C57-8637-43BA-B328-D31A2BE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1F7-5258-42DA-AB7B-31EA0B37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5A9-6B4D-4196-A65F-6E8516BE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8F47-B26F-4D67-B109-D2636387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936-DA7A-44CC-80E5-4CF79F4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C58-710E-4F16-BF25-EF9D8213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C44D-D029-40D8-B211-8B01C96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B0A4-8C26-4646-8E79-D63692F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BE65-5AD1-414E-BCCA-D40ED89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58AB-C75B-4F9B-A79A-979F493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6F7-395D-4BB8-8AB8-923F6CC0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F785-57CC-4715-A566-34FC209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1F0F-623C-4740-81C8-D9DE1003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3BCE-F534-4AE0-BB1B-F2A41FCF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449A-54C0-4C10-AE66-A22A1573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8B3C-4E65-4F3F-8FD7-C09F2A94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05A-EBD1-474E-9592-F59116A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EB6-3460-40BF-86F4-7CF8D9AE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D7C-0157-40AA-AFA2-D3008B96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5EC-B72C-443B-B6E2-5F570052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0BE-993C-4C5D-8CF6-A139602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4EE-6DBF-4591-9190-A1521621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45F-6A64-4677-A62D-666F1C5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76B-0730-4805-8D2B-145CB2AEF9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FD16-A89B-4D84-B5C7-1193D95955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А ИМУНИЗ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КУЛТЕТ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ДИЦИНСКИХ НАУ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БАКТЕРИЈСКИ серум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стрептококни, антипнеумококн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менингокок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наласком сулфонамида и антибиотика губе знача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имунизацију животиња користиле су се бујонске културе или суспензије мртвих или атенуисаних бактер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ВИРУС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 беснила (анималног порек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ијен из крви имунизованих коњ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ета готова Ат врше неутрализацију узрочника и успоравају његов пут до Ц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ас замењен хуманим хиперимуним гамаглобули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сивна профилакса од беснила обавезна за лица изложена инфекцији вирусом беснила (дефинисана Правилник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ТОКСИЧ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 према токсинима различитих бактеријских или животињских вр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 дифтерије, ботулизма, гасне гангрене, змијског уједа, отрова паукова, шкорпиона, отровних риб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ТОКСИЧ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упак добијања антитоксичног серу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мунизацијом коња, употребом самог токсина или вакцине са антитоксичним антиге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ТЕТАНУСНИ серум (антитоксични серум)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 користио с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пасивној имунизацији (серопрофилакса) и терапији обољења (серотерапиј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чко дејство антитоксин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утрализација слободног токсина у крвото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ма утицаја на токсине везане за тк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вао се што брже, у довољним количина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07084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aeaea"/>
                </a:solidFill>
                <a:uFillTx/>
                <a:latin typeface="Tahoma"/>
              </a:rPr>
              <a:t>АНТИДИФТЕРИЧНИ серум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истио се у профилакси и терапији (нпр. деци која нису вакцинисана, а била су у контакту са оболелим дати 5-10000 АЈ и започети вакцинациј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биотска терапија не делује на излучени токсин већ само на проузроковач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АНТИДИФТЕРИЧНИ серум </a:t>
            </a:r>
            <a:br>
              <a:rPr sz="3200"/>
            </a:br>
            <a:r>
              <a:rPr b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(у профилакси и терапији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 1981. не региструјемо дифтерију у нашој земљ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љење је очекива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у подручјима са недовољно развијеном здравственом служб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од пропуста у спровођењу активне имуниза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БОТУЛИНСК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И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серум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 се ретко корист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тулизам је ретка и тешка интоксик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рум се користи у терап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ивалентни серум А, Б, Ц → идентификација типа клостридијума → моновалентни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Један случај тровања → све особе које с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зумирале недовољно сушено или сољено месо профилактички примају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ГАНГРЕНОЗНИ серу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4560" y="148428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сна гангрена је у рату најважнија инфекција ран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терапији обољења поливалентни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руршка обрада р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сигенација тк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биотиц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АНТИВИПЕРИНИ серум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(против змијског уједа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мијски отрови или њихови детоксиковани препарати су антигени за добијање анималног серу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неутрализацију змијског токс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терапији после ује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соко специфични против отрова једне врсте зм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Пасивна имуниз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СПЕЦИФИЧНИ                     СПЕЦИФ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КТИВН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СИ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▪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н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▫ Природ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оболевање)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трансплацентар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▪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штачк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▫ Вешта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вакцинација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еру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мани имуноглобул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"/>
          <p:cNvSpPr/>
          <p:nvPr/>
        </p:nvSpPr>
        <p:spPr>
          <a:xfrm rot="1868400">
            <a:off x="4787640" y="1699920"/>
            <a:ext cx="1296720" cy="144360"/>
          </a:xfrm>
          <a:prstGeom prst="rightArrow">
            <a:avLst>
              <a:gd name="adj1" fmla="val 50000"/>
              <a:gd name="adj2" fmla="val 22456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8"/>
          <p:cNvSpPr/>
          <p:nvPr/>
        </p:nvSpPr>
        <p:spPr>
          <a:xfrm rot="8874000">
            <a:off x="2986920" y="1699560"/>
            <a:ext cx="1297080" cy="144360"/>
          </a:xfrm>
          <a:prstGeom prst="rightArrow">
            <a:avLst>
              <a:gd name="adj1" fmla="val 50000"/>
              <a:gd name="adj2" fmla="val 22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9"/>
          <p:cNvSpPr/>
          <p:nvPr/>
        </p:nvSpPr>
        <p:spPr>
          <a:xfrm rot="19816800">
            <a:off x="4788000" y="2636640"/>
            <a:ext cx="718920" cy="144360"/>
          </a:xfrm>
          <a:prstGeom prst="leftArrow">
            <a:avLst>
              <a:gd name="adj1" fmla="val 50000"/>
              <a:gd name="adj2" fmla="val 12450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0"/>
          <p:cNvSpPr/>
          <p:nvPr/>
        </p:nvSpPr>
        <p:spPr>
          <a:xfrm rot="12771000">
            <a:off x="6227640" y="2636640"/>
            <a:ext cx="719280" cy="144360"/>
          </a:xfrm>
          <a:prstGeom prst="leftArrow">
            <a:avLst>
              <a:gd name="adj1" fmla="val 50000"/>
              <a:gd name="adj2" fmla="val 12456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ХУМАНИ ИМУНОГЛОБУЛИНИ (гамаглобулини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еинска фракција серума са предоминацијом глобулина класе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g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држе антивирусна, антибактеријска и у мањој мери антитоксична 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  стандард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.  хипериму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ирогени, стерилни раство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плазме најмање 1000 здравих давалаца крви или из интактних плаценти здравих ж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кључено је преношење инфекције (вирусни хепатитис А, Б и Ц, ХИВ инфекција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облику 16% раствора садржи најмање два Ат (једно антивирусно и једно антибактеријс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нтрација Ат је 25 пута већа од концентрације материјала из кога потич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964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во Ат и њихов међусобни однос зависи о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ширености болести у популац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ухвата становништва вакцинациј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кација за гамаглобулинску профилакс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спозиција осетљивих неимуних особа (морбили, вирусни хепатитис А, рубела, варичела, паротитис)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ahoma"/>
              </a:rPr>
              <a:t>ПАСИВНА ЗАШТИТА КОД МОРБИЛ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уноглобулини дати у првих 6 дана од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ложености инфекцији спречавај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кације: деца у непосредној опасности од обољења, а постоје контраиндикације за вакцинацију или је прошло 72 часа од изложености (у прва три дана може се дати вакци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штита породичних контаката и контаката насталих у болницама и дечјим установ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ПАСИВНА ЗАШТИТА КОД МОРБИЛ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репоручује се 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лица која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нису прележала или нису вакцинис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против малих богиња, а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била су у контакт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са оболелим и 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имункомпромитованих код којих постоји трајна </a:t>
            </a:r>
            <a:r>
              <a:rPr b="0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контраинди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за вакцину против малих боги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трудн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Пасивна имунизација се спроводи у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периоду д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 дана након конта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cc3300"/>
                </a:solidFill>
                <a:uFillTx/>
                <a:latin typeface="Tahoma"/>
              </a:rPr>
              <a:t>П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репарат садржи </a:t>
            </a:r>
            <a:r>
              <a:rPr b="1" lang="sr-CS" sz="2800" spc="-1" strike="noStrike" u="sng">
                <a:solidFill>
                  <a:srgbClr val="cc3300"/>
                </a:solidFill>
                <a:uFillTx/>
                <a:latin typeface="Tahoma"/>
              </a:rPr>
              <a:t>Ат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 против малих богињ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Пасивна профилакса код рубел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штитна вредност се оспо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Различите оцене деловања имуноглобулина потичу од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доз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садржају анти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времену које је протекло од момента изложености до његове прим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aeaea"/>
                </a:solidFill>
                <a:uFillTx/>
                <a:latin typeface="Tahoma"/>
              </a:rPr>
              <a:t>ПАСИВНА ПРОФИЛАКСА КОД ВАРИЦЕЛЕ И ПАРОТИТИС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пречавању интрахоспиталних инфекција на дечјим одељењ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ПАСИВНА ПРОФИЛАКСА ПОЛИОМИЈЕЛИТИС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 увођења ефикасне вакцине редуковала стопу секундарних случајева међу изложен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крви особа које су вакцинисане против одређених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ести па је ниво специфичних Ат веома вис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ани хиперимунигамаглобулини против тетануса,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 и вирусног хепатити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  <a:ea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д специфичне отпорности који настаје уношењем готових антитела природним или вештачким пут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 бит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ирод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ешта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 од ТЕТАН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0 иј. антитетанусног имуноглобу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ндикаци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лица која су потпуно вакцинисана и ревакцинисана против тетануса за свој узраст, а од последње дозе до повреде је прошло више од 10 год. одмах по повређивању добијају 1 дозу вакцине и 250 и.ј. гамаглобу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Правилник о Програму обавезне и препоручене имунизације становништва против одређених заразних болести (СЛ. гласник РС. бр 65/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ндикаци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лица која нису вакцинисана или су непотпуно вакцинисана или немају доказе о имунизацији против тетануса добијају три дозе антитетанусне вакцине 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хиперимуни антитетанусни гамаглобулин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са првом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дозом вакц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Правилник о Програму обавезне и препоручене имунизације становништва против одређених заразних болести (СЛ. гласник РС. бр 65/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ahoma"/>
              </a:rPr>
              <a:t>ХТИг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је се повређеним лиц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нису вакцинис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су непотпуно вакцинис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немају доказе о имунизациј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су потпуно вакцинисана или ревакцинисана за свој узраст, а од последње дозе (вакцинације или ревакцинације) до повреде је прошл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10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 доза: 250 И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 ХТИг и вакцина се дају на различита мес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 иј/кг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елесне тежин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антирабичног имуноглобулина (1/2 у околину ране, 1/2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 мишић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 складу са вакциналним статусом започети заштиту од тетан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6472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(заштита особа повређених од бесне или на беснило сумњиве животињ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Истовремено са давањем прв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дозе вакцине против 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Једнократно дати хумани антирабични гамаглобулин (20 иј/кг телесне тежин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915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сивна профилакса о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ИРУСНОГ ХЕПАТИТИСА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ворођенчад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BsA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озитивних мајк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, одмах по рођењ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вакцинисана или непотпуно вакцинисана лица која су имала акцидент са инфективним материја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мах по рођењу, односно акциденту, у количини коју препоручује произвођ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мах по утврђеној индикацији за имунопрофилаксу истовремено дати и прву дозу вакцине у супротан екстремит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691344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ности</a:t>
            </a: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 у заштити имуноглобулиним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суство реакције сензибилза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уже деловањ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рија елимин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нтрација опада за 1/2 сваких 24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штита се одржава неколико недеља или месе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84836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ОПРЕЗ у заштити имуноглобулиним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маглобулине намењене пасивној имунизацији дати искључиво интрамускулар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раваскуларна инокулација је акцидентал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родни пасивни имунитет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ошењем Ат мајке (трансплацентарно од 3. месеца интраутериног живота и преко колострума у постнаталном живот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ада и нестаје после 5-6 месеци од рођењ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штачки пасивни имунит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ошење серума и гамаглобулина (од имуних људи и животињ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 активног учешћа организма па овај начин стицања отпорности назива се пасивна имунизација или пасивна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офилак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асивна имунизација оправдана код</a:t>
            </a:r>
            <a:r>
              <a:rPr b="1" lang="sr-C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непосредне изложености опасности од инфекције када се: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и имунитет не изводи или је контраиндикова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аричела, мале богињ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 довољно времена за продукцију сопствених Ат извођењем активне имунизације (морби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порност успоставља комбинованом пасивно-активном профилаксом (тетанус, беснило, вирусни хепатитис Б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ahoma"/>
              </a:rPr>
              <a:t>Пасивна имунизациј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муни серуми (антисеру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Хумани имуноглобулини (гамаглобулин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стандард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хипериму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Имуни серуми (антисеруми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акција крви која садржи Ат против одређених проузроковача (токси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чишћени и концентровани серуми анималног порекла садрже Ат против различитих бактерија и вируса и токсичних продуката неких бактеријских и животињских вр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69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Имуни серуми (антисеруми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упак добијања имуних серу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ехником хиперимунизације животиња (коња најчешће) који обезбеђују велику количину крви и висок титар анти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9:43:28Z</dcterms:created>
  <dc:creator>User</dc:creator>
  <dc:description/>
  <dc:language>en-US</dc:language>
  <cp:lastModifiedBy> </cp:lastModifiedBy>
  <dcterms:modified xsi:type="dcterms:W3CDTF">2020-09-30T09:57:30Z</dcterms:modified>
  <cp:revision>37</cp:revision>
  <dc:subject/>
  <dc:title>Slide 1</dc:title>
</cp:coreProperties>
</file>