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EF6-C0AF-4FB4-A2F8-6C6E3191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58F-F419-458F-A4B5-B26F6DC5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013-1F4E-4A03-A6BD-61D4B7B2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645-D0A3-4A21-B473-9D040B5E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110C-9771-4A66-983E-82462FC5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6478-A4CD-4744-B211-412B56EA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7BEB-5A3F-45A1-8198-4831368C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8445-766D-47A6-B2B7-DFCAAC8D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FC94-DEB9-43E0-8B6C-D1127C33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95E5-85E9-42DF-BD6C-34959079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5EE1-7B2F-4828-A607-89FEF2D2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5A6-D1C6-49E3-B13C-5E8FACDE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1987-9F1A-4FA8-A71D-7817BCF8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93C1-226E-4DD2-84DE-D698809E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37AF-EAA6-4486-8FC2-E7BEFCDF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899B-20BD-4DC5-9BDA-BC9502FD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18EB-5369-43E0-BE58-DA8335BF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358-8B4C-4CE7-BA2B-FB4139A3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188-6225-4CB9-9414-4570D2A2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60D-BF1A-44C2-A6D7-866D4B6D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A6A-C69A-4D26-8CA6-14E97E2A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067-704B-46CE-8EE4-98E1300C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0AC-72E8-4608-82CF-EC0894A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4ED-41E4-436F-AA5B-BBE22EF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9CB3-AF85-41C8-882B-B647DA01C2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DD44-002C-474B-8689-0D62CE26DC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довно прање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довољну количину хигијенски исправне воде за све потребе (пиће, кување, купање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хигијенске услове за чување, транспорт и обраду намир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градња канализационе мр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декватно отклањање отпадних материја (комунални отпад, медицински отпад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фикасно сузбијање му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респиратор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6376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пецифичне мере превенције респираторних заразних болести већег су значаја у односу на опште ме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заразе у превенцији респираторних болести код којих постоји хронично клицоноштво (дифтерија, шарлах и друге стрептококозе) тј. истраж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респиратор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пљ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груписања људи у затвореним просториј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ветрав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лажно чишћење простор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пољубаца са инфицираном особ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посуђа и прибора за ј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и дезинфекција играчака (дечја обданиш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потреба папирних марам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маски (вишеслојн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рекривају нос и у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е носе се дуже од три сата (овлажене не дају заштит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акон употребе се бацај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икада се поново не кори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заштитних наоч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начајно у спречавању ширења респираторних обољења у болничкој среди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животи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иштавање глод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ч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мала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 Превенција болести које се преносе вашим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збијање вашљивости-елиминација пегавог тиф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 (маларија, жута грозница, денг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прскање инсектицидима просторија у којима се налазе људи и животи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исушивање влажних тере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заштита од вектора (мреже на прозорима и вратим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ношење репелената (одбијају инсекте) на кож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иљ: онемогућавање настанка услова за појаву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преко крпеља (Лајмска болест, крпељски менингоенцефалитис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бегавање кретања кроз високу тр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ошење дугих панталона и дугих рук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аскрчивање терена од густе вегетације при камповању и логорова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антропозооно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радња ветеринарске и здравствене служ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мањење учесталости оболевања код животи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нтрола промета животињ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Одржавање хигијенских услова у просторијама где се животиње др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Вакцин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Л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зависе од путева ширења односно од улазног места аген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6240" y="1913040"/>
            <a:ext cx="8003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Опш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пецифич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 односе се на једно одређено обољ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ристе се у спречавању појаве св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личне су за обољења која припадају истој групи (према епидемиолошкој класификациј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су према свим карикама ланца инфе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пецифичн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носе се на превенцију одређене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ухватај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кцинаци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ер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еми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ају највећи значај у превенцији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окривању резервоа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путевима преноше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(трбушни тифус, бациларна дизентерија)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у хуманој попул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даљавање клицоноша са радних места (запослени у производњи, преради и дистрибуцији хране или снабдевању становништва водом за пић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међу животињ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(клицоно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брана коришћења продуката оболел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сек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0T07:35:1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