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3BA1-6789-4AC9-B7CE-A2220F865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20B1-B4AF-4ACC-8C67-B5CF7F89B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3191-F645-44A0-BB92-DFCBF123E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BD16-8B67-434D-9F6C-A7AF958D6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DAC7F-1C6D-45A4-97DA-598E83FA1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599E1-B138-4B47-9DB4-BA473848D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51D9B-7044-48E2-AD9F-D6D65FCD1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5E8B1-01C6-4BD0-AE38-CC1322591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62639-4016-4A8D-B0A1-A3591CB03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631D9-18FB-4A9A-A107-584684FF8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2921F-4AC8-4686-B5A2-885E63D30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C494-2A35-4DBC-8358-C3A22C841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934E2-5813-48F1-B531-8FEBA519A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3012E-1028-4878-A20D-BA3E084E6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D6F62-FC7F-4E84-B9C8-359A318C8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A81A5-5B1C-49A7-A6E6-37FE637FE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B5B1C-75C1-4278-AA7B-3B866CE99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ED7C-859A-4C15-9E01-23CB6A329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788E-7A87-4CF3-9A58-616CCDF63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5A35-4FA7-46DC-AEE1-028A9B182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E197-B68A-4E2A-B67A-BEAC877C6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34AC-1EE9-4E2D-81AE-EEE297D87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4EF3-5C82-4C02-8361-2A84DD74C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A8C0-9C76-4B70-AB35-314AB3F7C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5C8D1-D4E3-4198-BB4A-5531A022CD9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1E770-38CC-407A-BC24-46DBEA4CC05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14475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800" spc="-1" strike="noStrike">
                <a:solidFill>
                  <a:srgbClr val="330066"/>
                </a:solidFill>
                <a:latin typeface="Arial"/>
              </a:rPr>
              <a:t>Превенција поремећаја здравља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900" spc="-1" strike="noStrike">
                <a:solidFill>
                  <a:srgbClr val="330066"/>
                </a:solidFill>
                <a:latin typeface="Arial"/>
              </a:rPr>
              <a:t>Примарна превенциј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sr-CS" sz="3000" spc="-1" strike="noStrike">
                <a:solidFill>
                  <a:srgbClr val="000000"/>
                </a:solidFill>
                <a:latin typeface="Arial"/>
              </a:rPr>
              <a:t>Мере примарне превенције усмерене н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Општу популацију (потреба за физичком активношћу која одговара узрасту) ил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Појединим њеним сегментима (вакцинација одојчади или заштита деце школског узраста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900" spc="-1" strike="noStrike">
                <a:solidFill>
                  <a:srgbClr val="330066"/>
                </a:solidFill>
                <a:latin typeface="Arial"/>
              </a:rPr>
              <a:t>Секундарна превенција 1/3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2133360"/>
            <a:ext cx="815328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Мере за што раније откривање већ насталих поремећаја здравља (откривање особа са већ узнапредовалом болешћу који су измакли пажњи здравствене службе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Циљ: успостављање нарушеног здрављ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900" spc="-1" strike="noStrike">
                <a:solidFill>
                  <a:srgbClr val="330066"/>
                </a:solidFill>
                <a:latin typeface="Arial"/>
              </a:rPr>
              <a:t>Секундарна превенција 2/3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80520" y="2057400"/>
            <a:ext cx="8077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Обезбеђује снижавање преваленције одговарајућег поремећаја здрављ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Циљна група: оболели (жртве болести) тј. повређене особ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* Примери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скрининг, самопреглед, систематски  преглед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900" spc="-1" strike="noStrike">
                <a:solidFill>
                  <a:srgbClr val="330066"/>
                </a:solidFill>
                <a:latin typeface="Arial"/>
              </a:rPr>
              <a:t>Секундарна превенција 3/3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87631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Мерама секундарне превенције се прелиминарно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Издвајају особе за које постоји сумња да су оболеле (дефинитивна дијагноза је у домену клиничке медицине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900" spc="-1" strike="noStrike">
                <a:solidFill>
                  <a:srgbClr val="330066"/>
                </a:solidFill>
                <a:latin typeface="Arial"/>
              </a:rPr>
              <a:t>Терцијарна превенција 1/3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80880" y="2361960"/>
            <a:ext cx="79250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Патолошки процес је већ одмакао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Потпуно излечење више није могућ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900" spc="-1" strike="noStrike">
                <a:solidFill>
                  <a:srgbClr val="330066"/>
                </a:solidFill>
                <a:latin typeface="Arial"/>
              </a:rPr>
              <a:t>Мере терцијарне превенције 2/3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761760" y="1719360"/>
            <a:ext cx="79246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Ограничавање оштећења и неспособности и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Мере рехабилитације и навикавање пацијента на настало стањ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900" spc="-1" strike="noStrike">
                <a:solidFill>
                  <a:srgbClr val="330066"/>
                </a:solidFill>
                <a:latin typeface="Arial"/>
              </a:rPr>
              <a:t>Терцијарна превенција 3/3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Снижава се учесталост компликација и умирањ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Циљна група: жртве болест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* Примери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редовни контролни преглед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рехабилитација (физичка и психичка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израда протез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500" spc="-1" strike="noStrike">
                <a:solidFill>
                  <a:srgbClr val="330066"/>
                </a:solidFill>
                <a:latin typeface="Arial"/>
              </a:rPr>
              <a:t>Поремећаји здравља од којих се данас највише оболева и умире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Кардиоваскуларна обољењ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Цереброваскуларна обољењ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Малигне неоплазм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Трауматиза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Опструктивна болест плућ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Дијабете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330066"/>
                </a:solidFill>
                <a:latin typeface="Arial"/>
              </a:rPr>
              <a:t>Личне навике и начин живота које утичу на учесталост најчешћих поремеђаја здравља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Пушењ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Исхрана богата мастима животињског порекл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Претеран унос алкохол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Одсуство физичке активност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Ризична вожњ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Хронични стре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76960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500" spc="-1" strike="noStrike">
                <a:solidFill>
                  <a:srgbClr val="330066"/>
                </a:solidFill>
                <a:latin typeface="Arial"/>
              </a:rPr>
              <a:t>Научне основе, дилеме и ограничења превенције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560" y="1828440"/>
            <a:ext cx="83055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Епидемиолошка истраживања (интервентне или опсервационе студије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Основ за одлучивање о избору превентивних мер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Сазнања о факторима ризика за настанак најважнијих поремећаја здравља (болести срца и к. судова, малигне неиоплазме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900" spc="-1" strike="noStrike">
                <a:solidFill>
                  <a:srgbClr val="330066"/>
                </a:solidFill>
                <a:latin typeface="Arial"/>
              </a:rPr>
              <a:t>Превенција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3000" spc="-1" strike="noStrike">
                <a:solidFill>
                  <a:srgbClr val="000000"/>
                </a:solidFill>
                <a:latin typeface="Arial"/>
              </a:rPr>
              <a:t>Активности и мере везане з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Унапређење здрављ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Очување здрављ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Успостављање здравља које је нарушено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Спречавање или одлагање неповољног тока и исхода иреверзибилних поремећаја здрављ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900" spc="-1" strike="noStrike">
                <a:solidFill>
                  <a:srgbClr val="330066"/>
                </a:solidFill>
                <a:latin typeface="Arial"/>
              </a:rPr>
              <a:t>Стратегија превентивног рад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Сегменти (у оперативном погледу) превентивне делатност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1. сагледавање епидемиолошке ситуациј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2. интервенциј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3. евалуација ефикасности интервенције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19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330066"/>
                </a:solidFill>
                <a:latin typeface="Arial"/>
              </a:rPr>
              <a:t>Сагледавање епидемиолошке ситуације</a:t>
            </a:r>
            <a:br>
              <a:rPr sz="3600"/>
            </a:b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Увид у стање и динамику расподеле болести и здравља у популациј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Обезбеђује се системом епидемиолошког надзор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Прилив поузданих информација важа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Дуга традиција праћења заразних болест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Изложеност макро и микро срединским ризицима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89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900" spc="-1" strike="noStrike">
                <a:solidFill>
                  <a:srgbClr val="330066"/>
                </a:solidFill>
                <a:latin typeface="Arial"/>
              </a:rPr>
              <a:t>Интервенциј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Ограничавање пажње само на </a:t>
            </a:r>
            <a:r>
              <a:rPr b="1" lang="sr-CS" sz="3000" spc="-1" strike="noStrike">
                <a:solidFill>
                  <a:srgbClr val="000000"/>
                </a:solidFill>
                <a:latin typeface="Arial"/>
              </a:rPr>
              <a:t>најугроженије сегменте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 популације </a:t>
            </a:r>
            <a:r>
              <a:rPr b="1" lang="sr-CS" sz="3000" spc="-1" strike="noStrike">
                <a:solidFill>
                  <a:srgbClr val="000000"/>
                </a:solidFill>
                <a:latin typeface="Arial"/>
              </a:rPr>
              <a:t>не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 даје ефект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Проценат оболевања је највећи у групи особа најизложенијих одређеном штетном фактори, али је учешће те групе у структури те популације мало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Највећи број оболелих се региструје из категорије грађана који имају 5 х нижи ризик али којих је 20 х виш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500" spc="-1" strike="noStrike">
                <a:solidFill>
                  <a:srgbClr val="330066"/>
                </a:solidFill>
                <a:latin typeface="Arial"/>
              </a:rPr>
              <a:t>Интервенција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Откривање и редовно лечење свих хипертоничара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  <a:ea typeface="Arial"/>
              </a:rPr>
              <a:t>→инциденција апоплексије би се смањила за 15 %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  <a:ea typeface="Arial"/>
              </a:rPr>
              <a:t>Просечно снижење хипертензије за 5 % → инциденција апоплексије опада за 30%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655344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900" spc="-1" strike="noStrike">
                <a:solidFill>
                  <a:srgbClr val="330066"/>
                </a:solidFill>
                <a:latin typeface="Arial"/>
              </a:rPr>
              <a:t>Превенциј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3152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000" spc="-1" strike="noStrike">
                <a:solidFill>
                  <a:srgbClr val="000000"/>
                </a:solidFill>
                <a:latin typeface="Arial"/>
              </a:rPr>
              <a:t>Борба против поремећаја здравља пре њиховог клиничког испољавањ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900" spc="-1" strike="noStrike">
                <a:solidFill>
                  <a:srgbClr val="330066"/>
                </a:solidFill>
                <a:latin typeface="Arial"/>
              </a:rPr>
              <a:t>Превентивна медицин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Ограничава се на поступке који су у опсегу здравствене служб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Имунизациј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Хемиопрофилакс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Проблем клицоноштв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Откривање болести скрининго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Заштита вулнерабилних група становништв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500" spc="-1" strike="noStrike">
                <a:solidFill>
                  <a:srgbClr val="330066"/>
                </a:solidFill>
                <a:latin typeface="Arial"/>
              </a:rPr>
              <a:t>Јавно здравство?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89917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sr-CS" sz="3000" spc="-1" strike="noStrike">
                <a:solidFill>
                  <a:srgbClr val="000000"/>
                </a:solidFill>
                <a:latin typeface="Arial"/>
              </a:rPr>
              <a:t>Превентивна делатност која је у надлежности целе друштвене заједниц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Обезбеђивање микробиолошки и хемијски исправне воде за пић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Безбедан систем одвођења и третирања отпадних вода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Хигијенско уклањање смећ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Борба против аерозагађења и бук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Контрола производње, ускладиштења и промета животних намирниц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Одржавање екосистема у стању равнотеж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761760"/>
            <a:ext cx="75438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500" spc="-1" strike="noStrike">
                <a:solidFill>
                  <a:srgbClr val="330066"/>
                </a:solidFill>
                <a:latin typeface="Arial"/>
              </a:rPr>
              <a:t>Нивои превенције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Примордијална превенциј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Примарна превенциј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Секундарна превенциј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Терцијарна превенциј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900" spc="-1" strike="noStrike">
                <a:solidFill>
                  <a:srgbClr val="330066"/>
                </a:solidFill>
                <a:latin typeface="Arial"/>
              </a:rPr>
              <a:t>Примордијална превенциј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467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Напори да се у одређену средину уопште не унесе штетна навика, обичај или облик понашањ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Претходи превенциј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89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900" spc="-1" strike="noStrike">
                <a:solidFill>
                  <a:srgbClr val="330066"/>
                </a:solidFill>
                <a:latin typeface="Arial"/>
              </a:rPr>
              <a:t>Примордијална превенциј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52280" y="1143000"/>
            <a:ext cx="88394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3000" spc="-1" strike="noStrike">
                <a:solidFill>
                  <a:srgbClr val="000000"/>
                </a:solidFill>
                <a:latin typeface="Arial"/>
              </a:rPr>
              <a:t>Циљна група: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 обухвата општу популацију тј. здраве грађан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3000" spc="-1" strike="noStrike">
                <a:solidFill>
                  <a:srgbClr val="000000"/>
                </a:solidFill>
                <a:latin typeface="Arial"/>
              </a:rPr>
              <a:t>Произашла из епидемиолошких сазнања о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Високој учесталости КВБ у деловима света где исхрана садржи много масти животињског порекла (Финска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Ниској учесталости КВБ у подручјима где су засићене масти мање заступљене у исхрани (Јапан-чест висок притисак и други фактори ризика за КВБ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900" spc="-1" strike="noStrike">
                <a:solidFill>
                  <a:srgbClr val="330066"/>
                </a:solidFill>
                <a:latin typeface="Arial"/>
              </a:rPr>
              <a:t>Примарна превенциј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560" y="1904760"/>
            <a:ext cx="8381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Циљна група: обухвата општу популацију тј. здраве грађан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Поступци који се предузимају пре појаве болести и повреда како до њих уопште не би дошло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Активности усмерене ка унапређењу и очувању здрављ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Мерама примарне превенције снижава се инциденциј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</cp:lastModifiedBy>
  <dcterms:modified xsi:type="dcterms:W3CDTF">2015-09-10T07:19:03Z</dcterms:modified>
  <cp:revision>4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